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40FC-D69C-4112-87B7-2B723EB5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31D-42C4-4712-8825-6CA732E9A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AEE2-FEBD-47FA-96CA-EF0AD8C8F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125-5F5C-42CA-B17B-E546B0612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249-1195-4075-A659-111D88E8C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356D-FE53-43D0-A9E3-52021AFBB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8E96-5FEF-4756-8A80-E5144C8C6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BD94-E018-4B22-964A-BCF2957AE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C1BB-2B3F-4550-B194-CD81344A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3FB-0DF0-4010-BF57-D8369BA47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22E-3C08-4AF7-B053-6E2FB2B1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B93-7DBC-41AE-8A43-279C03A9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3660-92C1-4F7B-BE45-6DF910C2C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A2DA-7F01-46A9-A55E-64A6920B0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791-947B-452B-9035-E33C53FF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027-96CD-4E88-A88D-4C847CA0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71C-4483-4456-BCA5-F3FCE09D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6AB-ED14-4923-BF27-8D593D5E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DC66B-A162-4A47-A88B-3195F4FD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48EB-038E-4CD3-8EF6-AF842DB6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1E7BC-5551-465D-95FE-F61E016A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E64DC-CABA-4160-AC21-3FA51B5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3AA56-C01C-4A97-A09C-08EA13E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C2F3-AC9D-4FE3-8BAC-ABC34E9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7B7D2-4891-4C1E-98BC-A17151D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63D-7553-4492-A66D-5007BBE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446C9-F295-42C0-9023-F8545F8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824B8-31A6-41FB-894F-71A6132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C6157-5CC1-4831-8D70-842C6C9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83EE-CFC5-4694-A0B0-43E76F89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D15F-9EB6-4A2A-94B6-70E708A2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3EF-C912-4C1F-B679-0CC7E67A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505-FDB0-4420-ADBA-7B188900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621-4494-4CFF-99B7-E9D31AD9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4C7-EE2B-4C66-8F7B-D5024F69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4F5-C1F5-482C-BD1E-DEBA64A7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707-3EDA-424C-9032-14E6D0D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765-260E-4C21-91BD-E030E62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FCC-580C-4667-A25B-074A5308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2CF-C060-43C6-9C3A-E0863C705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Comic Sans MS"/>
              </a:rPr>
              <a:t>The Layers of the Earth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5" descr="the earth.jpg"/>
          <p:cNvPicPr/>
          <p:nvPr/>
        </p:nvPicPr>
        <p:blipFill>
          <a:blip r:embed="rId1"/>
          <a:stretch/>
        </p:blipFill>
        <p:spPr>
          <a:xfrm>
            <a:off x="2743200" y="1981080"/>
            <a:ext cx="3676680" cy="3676680"/>
          </a:xfrm>
          <a:prstGeom prst="rect">
            <a:avLst/>
          </a:prstGeom>
          <a:ln w="0">
            <a:noFill/>
          </a:ln>
        </p:spPr>
      </p:pic>
      <p:sp>
        <p:nvSpPr>
          <p:cNvPr id="131" name="Title 3"/>
          <p:cNvSpPr/>
          <p:nvPr/>
        </p:nvSpPr>
        <p:spPr>
          <a:xfrm>
            <a:off x="2243160" y="2362320"/>
            <a:ext cx="465768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The Structure and Dynamics of the Earth’s Inter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Outer Co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 The outer core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iquid meta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ron and nickel with 10% sulfur and/or oxy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 It is very hot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000-9000°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* The outer core is 2,250km thi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4" descr="Picture8"/>
          <p:cNvPicPr/>
          <p:nvPr/>
        </p:nvPicPr>
        <p:blipFill>
          <a:blip r:embed="rId1"/>
          <a:stretch/>
        </p:blipFill>
        <p:spPr>
          <a:xfrm>
            <a:off x="4853160" y="1990800"/>
            <a:ext cx="383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Inner Co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*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The inner core is solid metal due to the extreme heat and press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* It is composed of iron and nickel.  It is responsible for the magnetic field the Earth genera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* The inner core is 800km thick and is 9000°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9" descr="Picture9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Comic Sans MS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What are the four layers of the Ear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The Earth’s crust is very ______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The mantle is the largest layer of the Earth? True or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Is the Outer Core a liquid or a soli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Comic Sans MS"/>
              </a:rPr>
              <a:t>Answer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Crust, Mantle, Outer Core, Inner 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) T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)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-304920" y="208080"/>
            <a:ext cx="8229600" cy="11206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83880"/>
            <a:ext cx="876312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85760" indent="-1857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ff9966"/>
                </a:solidFill>
                <a:latin typeface="Verdana"/>
              </a:rPr>
              <a:t>After Earth Formed, radioactive elements decayed and heat was rele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ff9966"/>
                </a:solidFill>
                <a:latin typeface="Verdana"/>
              </a:rPr>
              <a:t>Caused melting of i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ff9966"/>
                </a:solidFill>
                <a:latin typeface="Verdana"/>
              </a:rPr>
              <a:t>Denser elements sank to core (Iron and Nicke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ff9966"/>
                </a:solidFill>
                <a:latin typeface="Verdana"/>
              </a:rPr>
              <a:t>Process is still on go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004d99"/>
                </a:solidFill>
                <a:latin typeface="Verdana"/>
              </a:rPr>
              <a:t>This is how the layers were form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TR00033_[1]"/>
          <p:cNvPicPr/>
          <p:nvPr/>
        </p:nvPicPr>
        <p:blipFill>
          <a:blip r:embed="rId2"/>
          <a:stretch/>
        </p:blipFill>
        <p:spPr>
          <a:xfrm>
            <a:off x="6934320" y="152280"/>
            <a:ext cx="1981080" cy="159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http://www.thegeographeronline.net/uploads/2/6/6/2/26629356/590077_orig.png"/>
          <p:cNvPicPr/>
          <p:nvPr/>
        </p:nvPicPr>
        <p:blipFill>
          <a:blip r:embed="rId3"/>
          <a:srcRect l="14318" t="16061" r="13137" b="6119"/>
          <a:stretch/>
        </p:blipFill>
        <p:spPr>
          <a:xfrm>
            <a:off x="5757840" y="4135320"/>
            <a:ext cx="31464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Comic Sans MS"/>
              </a:rPr>
              <a:t>Earth Layers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arth is divided into four main lay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Outer c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*Inn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TR00033_[1]"/>
          <p:cNvPicPr/>
          <p:nvPr/>
        </p:nvPicPr>
        <p:blipFill>
          <a:blip r:embed="rId1"/>
          <a:stretch/>
        </p:blipFill>
        <p:spPr>
          <a:xfrm>
            <a:off x="6934320" y="152280"/>
            <a:ext cx="19810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layers of the earth.jpg"/>
          <p:cNvPicPr/>
          <p:nvPr/>
        </p:nvPicPr>
        <p:blipFill>
          <a:blip r:embed="rId1"/>
          <a:stretch/>
        </p:blipFill>
        <p:spPr>
          <a:xfrm>
            <a:off x="1676520" y="276120"/>
            <a:ext cx="5778360" cy="56930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2514600" y="653580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161616"/>
                </a:solidFill>
                <a:uFillTx/>
                <a:latin typeface="Arial"/>
              </a:rPr>
              <a:t>http://www.glossary.oilfield.slb.com/DisplayImage.cfm?ID=12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Cru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Earth’s crust is the outermost surfac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*It is a very thin layer of solid rock.  It is the thinnest layer of the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*The crust is 5-35km thick beneath the land and 1-8km thick beneath the ocea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omic Sans MS"/>
              </a:rPr>
              <a:t>* The crust of the Earth is broken into many pieces called plates.  The movement of these plates causes earthqu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543800" y="2819520"/>
            <a:ext cx="1143000" cy="761760"/>
          </a:xfrm>
          <a:prstGeom prst="rect">
            <a:avLst/>
          </a:prstGeom>
          <a:solidFill>
            <a:srgbClr val="78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Content Placeholder 10" descr="layers of the earth.jpg"/>
          <p:cNvPicPr/>
          <p:nvPr/>
        </p:nvPicPr>
        <p:blipFill>
          <a:blip r:embed="rId1"/>
          <a:stretch/>
        </p:blipFill>
        <p:spPr>
          <a:xfrm>
            <a:off x="4648320" y="1859040"/>
            <a:ext cx="4038480" cy="3978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6400800" y="1905120"/>
            <a:ext cx="1371600" cy="6094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648320" y="1905120"/>
            <a:ext cx="1752480" cy="6094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5257800" y="2514600"/>
            <a:ext cx="838080" cy="763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 rot="18973800">
            <a:off x="5486040" y="2590560"/>
            <a:ext cx="228600" cy="30456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4648320" y="2743200"/>
            <a:ext cx="838080" cy="3049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5029200" y="3048120"/>
            <a:ext cx="304920" cy="1522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4724280" y="4800600"/>
            <a:ext cx="762120" cy="9907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5257800" y="5105520"/>
            <a:ext cx="533520" cy="4572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5715000" y="5334120"/>
            <a:ext cx="1219320" cy="4572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Lithosp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 your mantle layer, draw a dotted line around the very edge of the circle.  This is the litho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lithosphere is composed of part of the crust and the upper part of the mantle (the top 100 k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 is composed of hard, brittle r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Content Placeholder 23" descr="layers of the earth.jpg"/>
          <p:cNvPicPr/>
          <p:nvPr/>
        </p:nvPicPr>
        <p:blipFill>
          <a:blip r:embed="rId1"/>
          <a:srcRect l="0" t="0" r="22642" b="47133"/>
          <a:stretch/>
        </p:blipFill>
        <p:spPr>
          <a:xfrm>
            <a:off x="4648320" y="1859040"/>
            <a:ext cx="4481280" cy="3017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6"/>
          <p:cNvSpPr/>
          <p:nvPr/>
        </p:nvSpPr>
        <p:spPr>
          <a:xfrm>
            <a:off x="8534520" y="2743200"/>
            <a:ext cx="609480" cy="4572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5486400" y="1905120"/>
            <a:ext cx="1752480" cy="6094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9"/>
          <p:cNvSpPr/>
          <p:nvPr/>
        </p:nvSpPr>
        <p:spPr>
          <a:xfrm rot="18973800">
            <a:off x="6501960" y="2463480"/>
            <a:ext cx="266760" cy="4824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4648320" y="2743200"/>
            <a:ext cx="838080" cy="3049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5029200" y="3048120"/>
            <a:ext cx="304920" cy="1522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 rot="18973800">
            <a:off x="5844960" y="2768400"/>
            <a:ext cx="266400" cy="4824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 rot="18973800">
            <a:off x="5311440" y="3454200"/>
            <a:ext cx="266760" cy="4824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4648320" y="2514600"/>
            <a:ext cx="1752480" cy="6094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648320" y="3124080"/>
            <a:ext cx="1218960" cy="4572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7543800" y="1905120"/>
            <a:ext cx="1219320" cy="380880"/>
          </a:xfrm>
          <a:prstGeom prst="rect">
            <a:avLst/>
          </a:prstGeom>
          <a:noFill/>
          <a:ln w="73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Athenosphe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*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athenosphere is the part of the mantl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underneath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the lithosphere.  Draw a dashed line about an inch under your dotted l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* It is made of molten rock and metal so that it “flows” like hot asphal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*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athenosphere is the part of the mantle that moves and causes the tectonic plates of the crust to move as we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ntent Placeholder 21" descr="layers of the earth.jpg"/>
          <p:cNvPicPr/>
          <p:nvPr/>
        </p:nvPicPr>
        <p:blipFill>
          <a:blip r:embed="rId1"/>
          <a:srcRect l="0" t="0" r="39629" b="47133"/>
          <a:stretch/>
        </p:blipFill>
        <p:spPr>
          <a:xfrm>
            <a:off x="4648320" y="1859040"/>
            <a:ext cx="4292640" cy="3703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2"/>
          <p:cNvSpPr/>
          <p:nvPr/>
        </p:nvSpPr>
        <p:spPr>
          <a:xfrm>
            <a:off x="6248520" y="1905120"/>
            <a:ext cx="2666880" cy="76176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 rot="14968200">
            <a:off x="6486120" y="2549160"/>
            <a:ext cx="990720" cy="3808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 rot="18501600">
            <a:off x="7607160" y="2479320"/>
            <a:ext cx="838080" cy="3812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4648320" y="3429000"/>
            <a:ext cx="1447560" cy="5335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 rot="13783200">
            <a:off x="5245920" y="3783240"/>
            <a:ext cx="803160" cy="36972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4724280" y="2590920"/>
            <a:ext cx="1752840" cy="533160"/>
          </a:xfrm>
          <a:prstGeom prst="rect">
            <a:avLst/>
          </a:prstGeom>
          <a:noFill/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Mant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*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mantle is the largest layer of the Earth.  It is 2900km thi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*It includes the lithosphere and atheno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*It is relatively flexible—it flows like very viscous liqu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*It is very hot—1600°F at the top and 4000°F towards the center of the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Content Placeholder 4" descr="layers of the earth.jpg"/>
          <p:cNvPicPr/>
          <p:nvPr/>
        </p:nvPicPr>
        <p:blipFill>
          <a:blip r:embed="rId1"/>
          <a:stretch/>
        </p:blipFill>
        <p:spPr>
          <a:xfrm>
            <a:off x="4648320" y="1859040"/>
            <a:ext cx="4038480" cy="3978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562720" y="1905120"/>
            <a:ext cx="838080" cy="4572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 rot="4340400">
            <a:off x="5750280" y="2205000"/>
            <a:ext cx="533160" cy="30456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391520" y="2438280"/>
            <a:ext cx="1066680" cy="3812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 rot="18982200">
            <a:off x="7635960" y="2792520"/>
            <a:ext cx="457200" cy="2286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543800" y="5029200"/>
            <a:ext cx="990720" cy="3808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rot="2925600">
            <a:off x="7615080" y="4886280"/>
            <a:ext cx="533160" cy="22860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029200" y="5181480"/>
            <a:ext cx="990720" cy="3812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648320" y="4952880"/>
            <a:ext cx="990360" cy="3812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 rot="8019000">
            <a:off x="5182920" y="4910040"/>
            <a:ext cx="374760" cy="16488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2"/>
          <p:cNvSpPr/>
          <p:nvPr/>
        </p:nvSpPr>
        <p:spPr>
          <a:xfrm flipV="1">
            <a:off x="5486400" y="3962520"/>
            <a:ext cx="990720" cy="838080"/>
          </a:xfrm>
          <a:prstGeom prst="line">
            <a:avLst/>
          </a:prstGeom>
          <a:ln w="22320">
            <a:solidFill>
              <a:srgbClr val="cda4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24"/>
          <p:cNvSpPr/>
          <p:nvPr/>
        </p:nvSpPr>
        <p:spPr>
          <a:xfrm flipV="1">
            <a:off x="5943600" y="4343400"/>
            <a:ext cx="457200" cy="838080"/>
          </a:xfrm>
          <a:prstGeom prst="line">
            <a:avLst/>
          </a:prstGeom>
          <a:ln w="22320">
            <a:solidFill>
              <a:srgbClr val="cda4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The Co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core of the Earth is like a ball of very hot metals.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he core is divided into 2 layers—Outer and Inner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* The core is SO hot and has SO much pressure that if you were to go there—you would be squished into something even smaller than a mar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Picture8"/>
          <p:cNvPicPr/>
          <p:nvPr/>
        </p:nvPicPr>
        <p:blipFill>
          <a:blip r:embed="rId1"/>
          <a:stretch/>
        </p:blipFill>
        <p:spPr>
          <a:xfrm>
            <a:off x="4991040" y="1219320"/>
            <a:ext cx="37720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23:13:43Z</dcterms:created>
  <dc:creator>Administrator</dc:creator>
  <dc:description/>
  <dc:language>en-US</dc:language>
  <cp:lastModifiedBy>Islam</cp:lastModifiedBy>
  <dcterms:modified xsi:type="dcterms:W3CDTF">2025-02-02T14:21:34Z</dcterms:modified>
  <cp:revision>25</cp:revision>
  <dc:subject/>
  <dc:title>The Layer’s Of The Earth!</dc:title>
</cp:coreProperties>
</file>